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3D5-D0DD-4641-97A6-C7D89E0C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BE48-0DC5-4788-B31C-FCB36B17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963-77E0-46F2-8214-65E52B2D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9CE-ECB9-4D60-8BBB-299199AB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AB5-88F3-4E1B-8AD8-644BB38F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AB0-1B24-4D6D-89EB-4104ED0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5F4-33FB-48ED-929C-67A797F8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E2E-7547-47F6-A3B8-F5DDCB88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0C28-75FE-4971-984E-C56887A4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AB4-3884-46F4-8DFA-C236BC0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D4F-55EC-4818-A2B7-B81C7EBB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9DD-C073-4D6C-BCD9-4AF0BCD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7AE1-FFA1-4B46-AF0C-6AA549D0CF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99360" y="539640"/>
            <a:ext cx="873000" cy="873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702320"/>
            <a:ext cx="7667640" cy="95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24360" y="2924280"/>
            <a:ext cx="37688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游泳教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322280"/>
            <a:ext cx="43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华文行楷"/>
                <a:ea typeface="华文行楷"/>
              </a:rPr>
              <a:t>101</a:t>
            </a:r>
            <a:r>
              <a:rPr b="1" lang="zh-CN" sz="6600" spc="-1" strike="noStrike">
                <a:solidFill>
                  <a:srgbClr val="00cc00"/>
                </a:solidFill>
                <a:latin typeface="华文行楷"/>
                <a:ea typeface="华文行楷"/>
              </a:rPr>
              <a:t>主题班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299736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如遇人溺水，没有把握千万不要下水救人，可一面大声呼救一面利用竹竿、树枝、绳索、衣服或漂浮物抢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79640" y="692280"/>
            <a:ext cx="516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800080">
                    <a:alpha val="44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S PGothic"/>
              </a:rPr>
              <a:t>溺水了怎么办</a:t>
            </a:r>
            <a:r>
              <a:rPr b="0" lang="en-US" sz="4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800080">
                    <a:alpha val="44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S PGothic"/>
              </a:rPr>
              <a:t>???</a:t>
            </a:r>
            <a:endParaRPr b="0" lang="en-US" sz="4400" spc="1" strike="noStrike">
              <a:ln w="9360">
                <a:solidFill>
                  <a:srgbClr val="99ccff"/>
                </a:solidFill>
                <a:miter/>
              </a:ln>
              <a:solidFill>
                <a:srgbClr val="800080">
                  <a:alpha val="44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S PGothic"/>
              <a:ea typeface="MS P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105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１、呛水：发生呛水时不要紧张，将头露出水面，把水从鼻和口里咳出，就能迅速恢复正常呼吸。</a:t>
            </a:r>
            <a:br>
              <a:rPr sz="4800"/>
            </a:b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    </a:t>
            </a:r>
            <a:br>
              <a:rPr sz="48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71640" y="404640"/>
            <a:ext cx="64389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8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46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游泳发生危险时的处理方法 </a:t>
            </a:r>
            <a:endParaRPr b="1" lang="en-US" sz="4000" spc="1" strike="noStrike">
              <a:ln cap="rnd" w="12600">
                <a:solidFill>
                  <a:srgbClr val="8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46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052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600"/>
            </a:b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    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２、耳朵进水：在水中时，可用吸引法，即将头偏向有水的耳朵一侧，用手掌压紧有水的耳朵，屏住呼吸，然后迅速提起手掌，反复做几次。在岸上或池上可用跳空法，即将头偏向有水的耳朵一侧，以同侧的腿支持身体，连续跳几次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765000"/>
            <a:ext cx="64389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8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46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游泳发生危险时的处理方法 </a:t>
            </a:r>
            <a:endParaRPr b="1" lang="en-US" sz="4000" spc="1" strike="noStrike">
              <a:ln cap="rnd" w="12600">
                <a:solidFill>
                  <a:srgbClr val="8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46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41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３、抽筋：当出现抽现象的先兆是局部肌肉发硬，关节不灵活，这时要思想冷静，动作放松，要改换泳式，上岸休息；如在水中发生抽筋现象，必须保持镇静不要慌张，可以呼救或自救。自救的主要方法是拉长抽筋肌肉，使收缩的肌肉松弛和伸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404640"/>
            <a:ext cx="64389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rnd" w="12600">
                  <a:solidFill>
                    <a:srgbClr val="800080"/>
                  </a:solidFill>
                  <a:custDash>
                    <a:ds d="100000" sp="1000"/>
                  </a:custDash>
                  <a:miter/>
                </a:ln>
                <a:solidFill>
                  <a:srgbClr val="800080">
                    <a:alpha val="46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游泳发生危险时的处理方法 </a:t>
            </a:r>
            <a:endParaRPr b="1" lang="en-US" sz="4000" spc="1" strike="noStrike">
              <a:ln cap="rnd" w="12600">
                <a:solidFill>
                  <a:srgbClr val="800080"/>
                </a:solidFill>
                <a:custDash>
                  <a:ds d="100000" sp="1000"/>
                </a:custDash>
                <a:miter/>
              </a:ln>
              <a:solidFill>
                <a:srgbClr val="800080">
                  <a:alpha val="46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4000" y="234936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１、先进行身体检查，经医生同意，方可下水游泳。游泳时，不宜单人行动，以二三人编组为好，这样便于互相学习与安全保护。 </a:t>
            </a:r>
            <a:br>
              <a:rPr sz="4000"/>
            </a:br>
            <a:r>
              <a:rPr b="1" lang="zh-CN" sz="4000" spc="-1" strike="noStrike">
                <a:solidFill>
                  <a:srgbClr val="009999"/>
                </a:solidFill>
                <a:latin typeface="宋体"/>
              </a:rPr>
              <a:t>    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  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35280" y="765000"/>
            <a:ext cx="3857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游泳卫生具备知识 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11280" y="213372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２、下水前，要做准备活动，使身体各器官各系统均做好游泳的准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835280" y="765000"/>
            <a:ext cx="3857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游泳卫生具备知识 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12536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３、游泳池应建立保证池水卫生的制度。要及时进行池水的消毒和净化。游泳者要注意公共卫生。淋浴后再下水。不得在水中吐痰或小便。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8000" y="0"/>
            <a:ext cx="38577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游泳卫生具备知识 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9640" y="1989000"/>
            <a:ext cx="828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４、出现头晕、恶心、冷颤等异常情况时，应及时出水。一般一次游一小时左右为宜。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  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35280" y="765000"/>
            <a:ext cx="3857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游泳卫生具备知识 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58920" y="256536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５、出水后，应淋浴，擦干身体，穿衣保暖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835280" y="765000"/>
            <a:ext cx="38574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游泳卫生具备知识 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819520" y="2286000"/>
            <a:ext cx="35049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26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炎热的夏天游泳是最热门的活动，除了室内室外游泳池，还有迷人的海滨、河流和小溪……但是欢乐享受之余，也请特别注意其中所潜藏的危机，事前多一分准备和考量，就可以带给我们无限的欢笑，更可以避免一些不必要的不幸和遗憾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63640" y="333360"/>
            <a:ext cx="49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游泳很好玩哦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有开放性伤口、皮肤病、眼疾不宜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感冒、生病、身体不适或虚弱不宜游泳。凡患有精神病、癫痫、严重心脏病、皮肤病、中耳炎、肝炎、鼻窦炎、急性结膜炎及其他各种传染病、急性病者均不宜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雷雨的天候不宜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水温太低、太凉不宜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游泳时禁止与同伴过份的开玩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要随兴下水，特别是野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风浪太大、照明不佳不要游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明水域不要游泳、跳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水浅、人多不可跳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0"/>
            <a:ext cx="6049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楷体"/>
              </a:rPr>
              <a:t>哪些情况不宜游泳</a:t>
            </a: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楷体"/>
              </a:rPr>
              <a:t>???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楷体"/>
              <a:ea typeface="华文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140508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游泳下水前先做暖身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下水的装备要带全，一定要带泳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水中切忌慌、乱，如遇抽筋，请保持冷静，改用仰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平日有机会就参加心肺复苏术训练及水中自救训练，如遇人溺水，没有把握不应下水救人，可一面大声呼救一面利用竹竿、树枝、绳索、衣服或漂浮物抢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露营、钓鱼、野外活动如靠近水边时，应严防小孩意外落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海边或户外游泳要防止晒伤及脚底刺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8000" y="260280"/>
            <a:ext cx="558036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游泳前注意什么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???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1197000"/>
            <a:ext cx="691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游泳中常会发生肌肉痉挛，大多为腿部抽筋，这主要是因为未作好入水前准备工作，或冷水的刺激，水中停留时间过长或过于疲劳等所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68360" y="333360"/>
            <a:ext cx="48960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游泳最忌讳的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80008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???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80008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20764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发生抽筋时若在浅水区可马上站立并用力伸蹬，或用手把足拇指往上掰，并按摩小腿可缓解。如在深水区，可采取仰泳姿势，把抽筋的腿伸直不动，待稍有缓解时，用手和另一条腿游向岸边，再按上述方法处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03280" y="907920"/>
            <a:ext cx="465768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800080">
                    <a:alpha val="61000"/>
                  </a:srgbClr>
                </a:solidFill>
                <a:latin typeface="宋体"/>
              </a:rPr>
              <a:t>抽筋了怎么办</a:t>
            </a:r>
            <a:r>
              <a:rPr b="1" lang="en-US" sz="4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800080">
                    <a:alpha val="61000"/>
                  </a:srgbClr>
                </a:solidFill>
                <a:latin typeface="宋体"/>
              </a:rPr>
              <a:t>???</a:t>
            </a:r>
            <a:endParaRPr b="1" lang="en-US" sz="4800" spc="1" strike="noStrike">
              <a:ln w="9360">
                <a:solidFill>
                  <a:srgbClr val="3366ff"/>
                </a:solidFill>
                <a:miter/>
              </a:ln>
              <a:solidFill>
                <a:srgbClr val="800080">
                  <a:alpha val="61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191628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有时因未掌握好游泳的呼吸动作，会发生呛水。呛水时不要慌张，调整好呼吸动作即可防止继续呛水。如发生在深水区又自觉身体十分疲劳不能再游时，也可呼叫旁人帮助上岸休息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　　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79640" y="40464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800080">
                    <a:alpha val="59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呛水了怎么办</a:t>
            </a:r>
            <a:r>
              <a:rPr b="1" lang="en-US" sz="4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800080">
                    <a:alpha val="59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???</a:t>
            </a:r>
            <a:endParaRPr b="1" lang="en-US" sz="4400" spc="1" strike="noStrike">
              <a:ln w="12600">
                <a:solidFill>
                  <a:srgbClr val="00ccff"/>
                </a:solidFill>
                <a:miter/>
              </a:ln>
              <a:solidFill>
                <a:srgbClr val="800080">
                  <a:alpha val="59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1125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有的人在游泳时发生腹痛现象。一般来说，是因水温较低或腹部受凉所致。作为预防措施，入水前应充分做好准备工作，如用手按摩腹脐部数分钟，用少量水擦胸，腹部及全身，以适应水温，如水中发生腹痛应立即上岸并注意保暖，还可服霍香正气水，一般来说腹痛会渐渐消失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32000" y="115920"/>
            <a:ext cx="59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800080">
                    <a:alpha val="59000"/>
                  </a:srgbClr>
                </a:solidFill>
                <a:latin typeface="方正姚体"/>
              </a:rPr>
              <a:t>腹痛了怎么办</a:t>
            </a:r>
            <a:r>
              <a:rPr b="1" lang="en-US" sz="44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800080">
                    <a:alpha val="59000"/>
                  </a:srgbClr>
                </a:solidFill>
                <a:latin typeface="方正姚体"/>
              </a:rPr>
              <a:t>???</a:t>
            </a:r>
            <a:endParaRPr b="1" lang="en-US" sz="4400" spc="1" strike="noStrike">
              <a:ln w="9360">
                <a:solidFill>
                  <a:srgbClr val="3366ff"/>
                </a:solidFill>
                <a:miter/>
              </a:ln>
              <a:solidFill>
                <a:srgbClr val="800080">
                  <a:alpha val="59000"/>
                </a:srgbClr>
              </a:solidFill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34920"/>
            <a:ext cx="873000" cy="873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7667640" cy="959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3640" y="227664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44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在水中游得时间过长或恰好腹中空空，上岸时动作过猛，有的人会出现头晕、目眩、恶心等反应，个别人会突然晕倒，一般情况下这是疲劳缺氧所致。针对性措施是注意保暖，按摩肌肉，喝些糖水或吃些水果等，很快可恢复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333360"/>
            <a:ext cx="338472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800080">
                    <a:alpha val="47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游泳后</a:t>
            </a:r>
            <a:r>
              <a:rPr b="1" lang="en-US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800080">
                    <a:alpha val="47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???</a:t>
            </a:r>
            <a:endParaRPr b="1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800080">
                  <a:alpha val="47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2:37:0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6:38Z</dcterms:modified>
  <cp:revision>1</cp:revision>
  <dc:subject>主题班会课件(分28大类): http://shop62905894.taobao.com</dc:subject>
  <dc:title>主题班会课件(分28大类): http://shop62905894.taobao.com</dc:title>
</cp:coreProperties>
</file>